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1C1-8E38-418F-9893-1F58A4CE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A541-ABA0-4C18-902B-C3F14645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AFB-45C2-4EC5-9952-ECBB3B3E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0B2-E22A-4405-85EE-FAB12F01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EBC1-34B2-43BD-A96E-F9BCE664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4886-3DA4-404B-8E8B-A28A3DF4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DEBB-2ED8-4AD2-8BD2-5FAB5FDA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E73-066E-43E7-ACAE-F4ED27F2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0A5B-7911-4381-9921-AB417D28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E771-8D01-431E-8498-C3648F7F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5719-4915-43E5-A4C3-0C9E60CC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3C0-BC1D-4D2C-B0F1-1E583448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E8E2-3BB9-46F2-AEF4-73BDC0CA31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1270584757_screenhunter_01-apr.-07-00.10.gif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4513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alibri"/>
              </a:rPr>
              <a:t>Цели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1. Сформировать понятие о витами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2. Сформировать биологическую роль витаминов в жизни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1457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93cddd"/>
                </a:solidFill>
                <a:latin typeface="Calibri"/>
              </a:rPr>
              <a:t>Задачи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f0"/>
                </a:solidFill>
                <a:latin typeface="Calibri"/>
              </a:rPr>
              <a:t>1. Сформировать понятие о  витаминах , как о биологически активных вещества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f0"/>
                </a:solidFill>
                <a:latin typeface="Calibri"/>
              </a:rPr>
              <a:t>2.  Развивать познавательный интерес к изучению биологических вопросов, логическому мышлению, умения обосновывать свою точку зрения, анализировать, делать вывод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f0"/>
                </a:solidFill>
                <a:latin typeface="Calibri"/>
              </a:rPr>
              <a:t>3. Научить применять теоретические знания на практике, сформировать понимание сложности влияния различных биологически активных веществ, в том числе и витаминов , на организм челове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pravitelstvo_ustanovit_predelnyj_uroven_cen_na_lekarstva_clause_origi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Что же такое витамины и что они из себя представляю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5640" y="2276640"/>
            <a:ext cx="6688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итамины- это органические вещества, содержащиеся в пище, необходимые для образования ферментов и других биологически активных вещест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Люди потребляют их в незначительном количестве, но без витаминов невозможна нормальная работа органов нашего тела. Витамины активно влияют на обмен веществ, рост и развитие организма, его сопротивляемость к заболеванию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935.jpg"/>
          <p:cNvPicPr/>
          <p:nvPr/>
        </p:nvPicPr>
        <p:blipFill>
          <a:blip r:embed="rId1"/>
          <a:stretch/>
        </p:blipFill>
        <p:spPr>
          <a:xfrm>
            <a:off x="1403280" y="1386000"/>
            <a:ext cx="6588360" cy="5472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Существует большое разнообразие витамин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От нехватки витаминов порождаются различные заболева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eye_kataract.jpg"/>
          <p:cNvPicPr/>
          <p:nvPr/>
        </p:nvPicPr>
        <p:blipFill>
          <a:blip r:embed="rId1"/>
          <a:stretch/>
        </p:blipFill>
        <p:spPr>
          <a:xfrm>
            <a:off x="179280" y="1773360"/>
            <a:ext cx="2581560" cy="20970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3" descr=""/>
          <p:cNvPicPr/>
          <p:nvPr/>
        </p:nvPicPr>
        <p:blipFill>
          <a:blip r:embed="rId2"/>
          <a:stretch/>
        </p:blipFill>
        <p:spPr>
          <a:xfrm>
            <a:off x="-255600" y="3492360"/>
            <a:ext cx="4114800" cy="15004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wein-2-5.jpeg"/>
          <p:cNvPicPr/>
          <p:nvPr/>
        </p:nvPicPr>
        <p:blipFill>
          <a:blip r:embed="rId3"/>
          <a:stretch/>
        </p:blipFill>
        <p:spPr>
          <a:xfrm>
            <a:off x="6012000" y="2060640"/>
            <a:ext cx="1898640" cy="16095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5867280" y="3573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цин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6" descr="gigantism.jpg"/>
          <p:cNvPicPr/>
          <p:nvPr/>
        </p:nvPicPr>
        <p:blipFill>
          <a:blip r:embed="rId4"/>
          <a:stretch/>
        </p:blipFill>
        <p:spPr>
          <a:xfrm>
            <a:off x="3564000" y="2276640"/>
            <a:ext cx="2298600" cy="381636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3564000" y="6165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гигантиз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Витамины  не вырабатываются в организме человека, а создаются растениями и животными. Полное отсутствие каких-то витаминов в организме называют авитаминозом. Болезни, возникающие при недостатке витаминов в пище, называют гиповинозами, а от избытка витаминов – гипервитаминоз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7:36:46Z</dcterms:created>
  <dc:creator>Николай</dc:creator>
  <dc:description/>
  <dc:language>en-US</dc:language>
  <cp:lastModifiedBy>08458</cp:lastModifiedBy>
  <dcterms:modified xsi:type="dcterms:W3CDTF">2011-05-11T07:19:31Z</dcterms:modified>
  <cp:revision>8</cp:revision>
  <dc:subject/>
  <dc:title>Слайд 1</dc:title>
</cp:coreProperties>
</file>